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977-B313-408A-98FC-86B2DAE8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84E-5FA3-48D0-BBD1-2836D2C5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AB40-E29A-460C-B681-F735AE55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CB5-307B-4AC1-9329-0828FCAC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FE7-4C2E-4DBB-8A2A-3B8720AF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39A7-F09E-48BA-A63F-0726515C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B06-84FB-42C9-B83C-4F5C3009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4106-F4B0-4801-A28C-CFB8858E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547-988C-4735-BA26-4AAFB999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104-D548-4651-A0D5-E1FAD07D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644-65C7-46E8-BA70-C775B8F5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FE2-825C-4305-9141-2D14C7CA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DCF43-DD82-4733-8225-3C221407A2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1B7D9-D43B-47AF-BD04-265BE74C5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 – get out your 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Is Krypton (Kr) a metal, nonmetal, or metalloid?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Calibri"/>
              </a:rPr>
              <a:t>What group does gold (Au) belong to?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What family does zinc (Zn) belong to?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me two haloge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Name one alkali metal.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Which of the following facts about Astatine is false?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Astatine is a metal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Astatine’s symbol is At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Astatine is a halogen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Astatine’s atomic number is 85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582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ich of the following facts about Hafnium is fals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afnium is a alkali metal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afnium’s symbol is Hf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afnium’s atomic number is 72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afnium is a metal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w and Homework Col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Guide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ndependent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8.5 Periodic Table Famil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.5 Periodic Table Famil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e columns of the periodic table are called groups and famili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.5 Periodic Table Famil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700" spc="-1" strike="noStrike" u="sng">
                <a:solidFill>
                  <a:srgbClr val="000000"/>
                </a:solidFill>
                <a:uFillTx/>
                <a:latin typeface="Calibri"/>
              </a:rPr>
              <a:t>Elements in the first group are in the alkali metal family.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700" spc="-1" strike="noStrike" u="sng">
                <a:solidFill>
                  <a:srgbClr val="000000"/>
                </a:solidFill>
                <a:uFillTx/>
                <a:latin typeface="Calibri"/>
              </a:rPr>
              <a:t>Elements in group 17 are called halogens.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700" spc="-1" strike="noStrike" u="sng">
                <a:solidFill>
                  <a:srgbClr val="000000"/>
                </a:solidFill>
                <a:uFillTx/>
                <a:latin typeface="Calibri"/>
              </a:rPr>
              <a:t>Halogens and alkali metals are very reactive.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>
              <a:spcBef>
                <a:spcPts val="13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Which two groups are very reactive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spcBef>
                <a:spcPts val="13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What group does fluorine (F) belong to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.5 Periodic Table Famil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Elements in the last group, group 18, are called noble gas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Noble gases do not react easil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Which group is nonreactive?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What group does Argon (Ar) belong to?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.5 Periodic Table Famil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Elements in groups 3-12 are called transition metals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6:52:01Z</dcterms:created>
  <dc:creator>Caroline Roth</dc:creator>
  <dc:description/>
  <dc:language>en-US</dc:language>
  <cp:lastModifiedBy>Caroline Roth</cp:lastModifiedBy>
  <dcterms:modified xsi:type="dcterms:W3CDTF">2011-03-27T17:38:19Z</dcterms:modified>
  <cp:revision>3</cp:revision>
  <dc:subject/>
  <dc:title>Do Now – get out your homework</dc:title>
</cp:coreProperties>
</file>